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13061"/>
        <c:axId val="97808272"/>
      </c:barChart>
      <c:catAx>
        <c:axId val="81813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8272"/>
        <c:crosses val="autoZero"/>
        <c:auto val="1"/>
        <c:lblAlgn val="ctr"/>
        <c:lblOffset val="100"/>
        <c:noMultiLvlLbl val="0"/>
      </c:catAx>
      <c:valAx>
        <c:axId val="97808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13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5D0-509F-4279-B4DF-CACA971A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D41-FABB-4AFB-BBAC-3E16E3BB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635-935B-4F7A-A521-58A5383E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31A-228E-4552-AB17-EFB36DB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EF5-D502-4EAF-8A64-85B9BD5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45A-371E-41C7-8974-400A3A6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736-7B0C-44C0-81D1-D772139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B72-4113-4BB6-AE43-0B4457AC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279-76DE-4FD8-BF2D-2F008DE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140-9BE5-47E5-A142-6C71F55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0D0-1717-4686-9EEA-8BB468E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0C6-C80B-4D3F-B5C3-9031F90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ADF21-7E7C-4C51-8DA4-EC29E6EE1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